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449C-4DF2-413E-BAB4-69187E5DFA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matter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mass and how does it compare to weigh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ord is used to describe the amount of space an object takes up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ss and how does it compare to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 is used to describe the amount of space an object takes 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stances contain only one kind of mat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se two is a substan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20  or Lemonad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contain only one kind of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se two is a sub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0  or Lemon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samples of a substance have the same physical properti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rystals of sucrose taste sweet and dissolve completely in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amples of a substance have the same physical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rystals of sucrose taste sweet and dissolve completely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hysical property is a quality or condition of a substance that can be observed or measured without changing the substance’s composi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ysical property is a quality or condition of a substance that can be observed or measured without changing the substance’s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hysical properties includ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 COL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 SOLU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 OD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- HARD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hysical properti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OLU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 O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- 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- 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- MELTING PO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- BOILING PO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-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- MEL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-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properties help chem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a substance based on their characterist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substance is thi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less liquid that boils at 100 ˚C    and melts at 0 ˚C”       ??????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less liquid that boils at 78 ˚C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melts at -117 ˚C”  ??????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help chem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a substance based on their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less liquid that boils at 100 ˚C    and melts at 0 ˚C”       ??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less liquid that boils at 78 ˚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elts at -117 ˚C”  ??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, sugar, ice and ir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e shape and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hape doesn’t depend on the shape of their contain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icles are packed tightly together,  they are almost incompressi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ids expand only lightly when he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, sugar, ice and i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e shape and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doesn’t depend on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are packed tightly together,  they are almost incompre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s expand only lightly when h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, milk and bloo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s the shape of their container (flow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are packed closely together, but not rigidly pack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that a liquid occupies is always constant, no matter what shape it tak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most incompressible, with a tendency to expand when hea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, milk an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the shape of their container (flow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s are packed closely together, but not rigidly pack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that a liquid occupies is always constant, no matter what shape it 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incompressible, with a tendency to expand when he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s the shape and form of their container (flowable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are spaced far apar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expand without limit to fill any sp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re easily compress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the shape and form of their container (flowa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s are spaced far ap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expand without limit to fill any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re easily 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seous state of a substance that is generally a liquid or solid at room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am (the gaseous state of matter) is referred to as a vapor because water is a liquid at room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ist air contains water vap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eous state of a substance that is generally a liquid or solid at room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 (the gaseous state of matter) is referred to as a vapor because water is a liquid at room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ist air contains water va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ype of change that alters a given material without changing it’s chemical composi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include: cutting, grinding, bending, the melting of the metal gallium, the freezing of water and the condensation of steam to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change that alters a given material without changing it’s chemical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: cutting, grinding, bending, the melting of the metal gallium, the freezing of water and the condensation of steam to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verbs or actions related to physical changes include: boil, freeze, dissolve, melt, condense, break, split, crack, grind, cut, crush and be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erbs or actions related to physical changes include: boil, freeze, dissolve, melt, condense, break, split, crack, grind, cut, crush and b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takes up space and has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ght is a measure of the pull of gravity on an object; mass is the amount of matter the object contai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u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takes up space and has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a measure of the pull of gravity on an object; mass is the amount of matter the object co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states of matter are represented in the photograp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ust you do to a substance to change it’s physical state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tates of matter are represented in the photo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ust you do to a substance to change it’s physical sta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erials differ in terms of the kind of matter they cont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ble sugar is always 100% sucro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ways has the same chemical composi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that has a uniform and definite composition is called a subst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differ in terms of the kind of matter they co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sugar is always 100% sucr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ways has the same chemical composi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that has a uniform and definite composition is called a sub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359-C01F-460A-8EF7-B2736480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80B-0D7E-4A12-AC92-68619339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8370-296B-4892-9B81-3C6A56C4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7C1-E728-40AD-9D13-8754C4DF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62C7-7FB5-41B7-890F-6A8A8A32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18C3-1172-4BDE-8B00-B3FEFFB1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1BF7-9672-4014-9EB9-8EC6061E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07EC-9DAB-43AD-9CAE-78AEF391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1127-C0A2-48DE-9B50-1AB9A7AE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D4E8-8B1D-4435-B7E6-A6401BCC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A682-AB11-4056-BADA-88DD347E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139-BB57-4989-8EA0-6343F713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20DC-B11E-41E6-9323-B9574520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0B30-9A91-48DD-94DA-82DD75E3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A556-00BB-4C99-89C7-A9B17BC0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9DA4-CFF0-4E82-BEF2-70E22430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2361-F8C7-4C4F-847F-3904ECA9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96D-453B-4E07-BF3F-EB099146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3257-AC57-4D14-A52A-50979759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DDD-8989-497D-B006-0CA4D58F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5ABF-CDAB-4498-A858-45A4AA15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191-77B2-4BCA-81B6-926D629A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AD7D-1308-4813-8616-947FE658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929-AECC-4FE6-8A36-E074DA95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CF26-20A5-4E43-8F46-6C2E4B4B37C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1146-12CF-48C2-8A4A-9F86F03DAAC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7776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BELLWORK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is</a:t>
            </a:r>
            <a:r>
              <a:rPr b="0" lang="es-HN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t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is mass and how does it compare to weigh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word is used to describe the amount of space an object takes u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Substances contain only one kind of ma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ich of these two is a substan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H20  or Lemonad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6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ll samples of a substance have the same physical proper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ll crystals of sucrose taste sweet and dissolve completely in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i="1" lang="es-HN" sz="3200" spc="-1" strike="noStrike" u="sng">
                <a:solidFill>
                  <a:srgbClr val="ffffff"/>
                </a:solidFill>
                <a:uFillTx/>
                <a:latin typeface="Tahoma"/>
              </a:rPr>
              <a:t>physical property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is a quality or condition of a substance that can be observed or measured without changing the substance’s com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2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Examples of physical properties 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1.- CO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2.- SOLU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3.- O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4.- HARD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5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5.-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6.- MELTING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7.- BOILING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8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Physical properties help chem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identify a substance based on their characterist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ich substance is thi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Colorless liquid that boils at 100 ˚C    and melts at 0 ˚C”       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Colorless liquid that boils at 78 ˚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nd melts at -117 ˚C”  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9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523880"/>
          <a:ext cx="8229600" cy="4577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86080"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HN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Important properties of the States of Ma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perty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lid 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quid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 or vap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ansion on he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y slig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ressi-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most incompre-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most incompre-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dily compre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Picture 177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SOL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Coal, sugar, ice and ir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Definite shape and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shape doesn’t depend on the shape of their contai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particles are packed tightly together,  they are almost incompres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Solids expand only lightly when he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37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LIQU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Water, milk and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akes the shape of their container (flow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Particles are packed closely together, but not rigidly pack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volume that a liquid occupies is always constant, no matter what shape it tak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Almost incompressible, with a tendency to expand when hea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G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akes the shape and form of their container (flowa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Particles are spaced far apa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Gases expand without limit to fill any s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Gases are easily compres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2514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HN" sz="3200" spc="-1" strike="noStrike">
                <a:solidFill>
                  <a:srgbClr val="ffffff"/>
                </a:solidFill>
                <a:latin typeface="Tahoma"/>
              </a:rPr>
              <a:t>Unit III Properties of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VAP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gaseous state of a substance that is generally a liquid or solid at room temper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Steam (the gaseous state of matter) is referred to as a vapor because water is a liquid at room temperatu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Moist air contains water vap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PHYSICA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 type of change that alters a given material without changing it’s chemical com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Examples include: cutting, grinding, bending, the melting of the metal gallium, the freezing of water and the condensation of steam to wa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PHYSICA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Other verbs or actions related to physical changes include: boil, freeze, dissolve, melt, condense, break, split, crack, grind, cut, crush and b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nything that takes up space and has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eight is a measure of the pull of gravity on an object; mass is the amount of matter the object contai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Volum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states of matter are represented in the photograp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must you do to a substance to change it’s physical stat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Picture 4" descr="pix-6-lava-bowl-8-094"/>
          <p:cNvPicPr/>
          <p:nvPr/>
        </p:nvPicPr>
        <p:blipFill>
          <a:blip r:embed="rId1"/>
          <a:stretch/>
        </p:blipFill>
        <p:spPr>
          <a:xfrm>
            <a:off x="1066680" y="1905120"/>
            <a:ext cx="7543800" cy="426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4" descr="CB022225"/>
          <p:cNvPicPr/>
          <p:nvPr/>
        </p:nvPicPr>
        <p:blipFill>
          <a:blip r:embed="rId1"/>
          <a:stretch/>
        </p:blipFill>
        <p:spPr>
          <a:xfrm>
            <a:off x="838080" y="1981080"/>
            <a:ext cx="373392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golf_ball_walking_hg_wht"/>
          <p:cNvPicPr/>
          <p:nvPr/>
        </p:nvPicPr>
        <p:blipFill>
          <a:blip r:embed="rId2"/>
          <a:stretch/>
        </p:blipFill>
        <p:spPr>
          <a:xfrm>
            <a:off x="457200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logo"/>
          <p:cNvPicPr/>
          <p:nvPr/>
        </p:nvPicPr>
        <p:blipFill>
          <a:blip r:embed="rId3"/>
          <a:stretch/>
        </p:blipFill>
        <p:spPr>
          <a:xfrm>
            <a:off x="85680" y="6219720"/>
            <a:ext cx="136224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erials differ in terms of the kind of matter they cont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Table sugar is always 100% sucro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It always has the same chemical composi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ter that has a uniform and definite composition is called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2" name="Picture 4" descr="sucrose"/>
          <p:cNvPicPr/>
          <p:nvPr/>
        </p:nvPicPr>
        <p:blipFill>
          <a:blip r:embed="rId1"/>
          <a:stretch/>
        </p:blipFill>
        <p:spPr>
          <a:xfrm>
            <a:off x="1143000" y="1781280"/>
            <a:ext cx="6934320" cy="4314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2:45:32Z</dcterms:created>
  <dc:creator>Marco A. Mass Pascua</dc:creator>
  <dc:description/>
  <dc:language>en-US</dc:language>
  <cp:lastModifiedBy>RomaK</cp:lastModifiedBy>
  <dcterms:modified xsi:type="dcterms:W3CDTF">2015-09-02T05:56:58Z</dcterms:modified>
  <cp:revision>18</cp:revision>
  <dc:subject/>
  <dc:title>Matter and Change</dc:title>
</cp:coreProperties>
</file>